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032-CDEA-4457-9865-22E8FBD5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3F2-B1D4-4C13-BF00-EC5160E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6E5-5916-4587-A23F-C3C0F344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B9-A033-4B65-85BC-54E3A5F4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3C4-EA12-4F26-828C-B8030F32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BB5-A2CB-410B-9B53-E073F2EC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629-F406-4910-978D-F80239D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D5B-DED2-4026-B5A2-D739E4E5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FC6-624E-4A72-A79B-3CE44885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F1D-823A-470A-819F-8676B9E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765-612F-4BD8-A9A6-8E37CE0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AFB-2BCE-4E1C-8170-CA31F09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2CC-7CA1-40FA-8C50-A8C47DB79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Solve problems by looking for a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06960" y="1413000"/>
            <a:ext cx="37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06960" y="1413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06600" y="141300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06600" y="1413000"/>
            <a:ext cx="54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4114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523880" y="41148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number of problems worked each half hour follow the patte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66680" y="3962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e number decreased by 15, then 13, then 11, so the next number should decrease by 9 and then by 7. The number subtracted decreases by two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58840" y="35053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, 1, 2, 3, 5, 8, 13, 21, 34,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91680" y="3733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attern: +2, +2, +3, +3, +4, +4, +5, +5, 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4, 2, 23, 3, 22, 4, . . . . . . 12, 13, 13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95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43000" y="369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84,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32080" y="583236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The difference between numbers increases by 1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07320" y="141300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5:09:12Z</dcterms:created>
  <dc:creator>vern</dc:creator>
  <dc:description/>
  <dc:language>en-US</dc:language>
  <cp:lastModifiedBy>Piper Riddle</cp:lastModifiedBy>
  <dcterms:modified xsi:type="dcterms:W3CDTF">2012-01-23T03:01:33Z</dcterms:modified>
  <cp:revision>6</cp:revision>
  <dc:subject/>
  <dc:title>Problem-Solving Strategy: Look for a pattern</dc:title>
</cp:coreProperties>
</file>